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03DC-3C09-4028-B47C-AA5B5378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FBF5-6078-4C75-9DF9-0212A4F6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7D5B-3ED9-49FD-A440-10EB6EFC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B6F6-EDF4-4A13-8AA1-3639AAB3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7C21-8B4B-4CFF-8C79-EF61E781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F92C-CB6A-400B-9A36-BD46C27B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FBFE-28BD-4619-986C-D10B6BD8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F028-5FC8-4775-9CEA-5B1F97A5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0F30-3BBE-4875-8BEB-4514EAF4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6803-07C8-412C-A5C8-FEAD31F4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86E8-1FAD-47A7-98D2-87B1DE06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FB3B-B369-4FA1-85C6-4365186C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F163-4C38-4A0D-859B-A022F9B13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2680" y="152280"/>
            <a:ext cx="5983200" cy="1524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8600" y="19414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00200" y="1905120"/>
            <a:ext cx="3429000" cy="458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28600" y="2374920"/>
            <a:ext cx="800100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4756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14600" y="41911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1320" y="4191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534520" y="4191120"/>
            <a:ext cx="3808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67480" y="4572000"/>
            <a:ext cx="1371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5353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72200" y="5029200"/>
            <a:ext cx="7621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7T16:41:25Z</dcterms:created>
  <dc:creator>Graham</dc:creator>
  <dc:description/>
  <dc:language>en-US</dc:language>
  <cp:lastModifiedBy>Graham</cp:lastModifiedBy>
  <dcterms:modified xsi:type="dcterms:W3CDTF">2012-08-08T12:20:39Z</dcterms:modified>
  <cp:revision>2</cp:revision>
  <dc:subject/>
  <dc:title>Slide 1</dc:title>
</cp:coreProperties>
</file>